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C9A4D-17DC-414E-BF31-8E2E9A981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B8D2B-CABE-4AFD-BBB6-ABB71EECA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AA4B8-3CB3-49B0-9CC6-9FFD71399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6B2F3-36A2-4C38-A59D-8B3A18697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6797B-C3A6-4683-8696-FDFA6BA5A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E92BC-1946-4603-888E-7492C11EC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FD361-ABE5-4F1A-AEA7-579F43BE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BB3CF-2742-4FBA-A96D-6C5E94C2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537EA-0E0C-42A6-8549-470D4C47D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DE42-3BCE-4F49-8499-C6FEF68AC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43639-83ED-492F-8175-28FD558CA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4520" cy="3767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1A6-4692-4E2E-B1B8-62C60F48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F6F-7CF3-42B9-9A7B-B98DB2DE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787-680A-49A4-8BB9-F3C16E01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052-58FB-462B-AE2A-8727586C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277-6006-4CF5-9D61-4BD0E9C1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4CC-4F3C-4FD0-95DE-0BE1AD38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54F-01B3-445A-859F-87A3DE9B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1C3-C1E3-4FB9-B67D-5414CEFB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EE5-C93A-42B8-A91B-17ABC3B0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DE5-C1D3-4E79-832B-117D5FC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FFE-C056-422F-BDD9-98FD9E4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476-0EC0-4F42-8E22-1F717D7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91036-911D-4286-A998-2AE1F2188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What is an atom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63440" y="-334800"/>
            <a:ext cx="9144000" cy="59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different kinds of atoms are called elem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ientists keep track of the elements on a big chart called the periodic 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5513" t="13203" r="0" b="0"/>
          <a:stretch/>
        </p:blipFill>
        <p:spPr>
          <a:xfrm>
            <a:off x="2144880" y="355140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914400" y="914400"/>
            <a:ext cx="84582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Atoms of different elements look and act differen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Atoms of the same element look and act the s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73280" y="48387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5497560" y="5684760"/>
            <a:ext cx="171612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6716880" y="3429000"/>
            <a:ext cx="27540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468360" y="503280"/>
            <a:ext cx="89154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everything in the world made of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re hot chips made of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392040" y="579600"/>
            <a:ext cx="85345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 When two or more atoms are stuck together, this forms a 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85800" y="457200"/>
            <a:ext cx="914400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) What is it called when two atoms comb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) What three smaller things make an at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) What is an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) What does the periodic tabl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4320" y="1494000"/>
            <a:ext cx="9064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4000"/>
          </a:bodyPr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432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432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7880" indent="-432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pop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85800" y="6858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ever wondered what things in the world are made of???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4440240" cy="42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60440" y="485640"/>
            <a:ext cx="61722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verything in the world is made of things called a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 are tiny round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look like thi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"/>
          <p:cNvSpPr/>
          <p:nvPr/>
        </p:nvSpPr>
        <p:spPr>
          <a:xfrm>
            <a:off x="6107040" y="4541760"/>
            <a:ext cx="68580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85800" y="4572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gether, lots of atoms make bigger objec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2168640"/>
            <a:ext cx="2971800" cy="3774960"/>
          </a:xfrm>
          <a:prstGeom prst="rect">
            <a:avLst/>
          </a:prstGeom>
          <a:ln w="0">
            <a:noFill/>
          </a:ln>
        </p:spPr>
      </p:pic>
      <p:sp>
        <p:nvSpPr>
          <p:cNvPr id="61" name="Oval 3"/>
          <p:cNvSpPr/>
          <p:nvPr/>
        </p:nvSpPr>
        <p:spPr>
          <a:xfrm>
            <a:off x="6208560" y="2057400"/>
            <a:ext cx="293544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800600" y="388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4800600" y="2741400"/>
            <a:ext cx="1600200" cy="11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6629400" y="2382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7024680" y="2130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6377040" y="2779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7024680" y="25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6773760" y="2995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6377040" y="3246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7458120" y="2347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889760" y="2130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277040" y="2995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7674120" y="2743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024680" y="3390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7674120" y="32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7421400" y="3606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9"/>
          <p:cNvSpPr/>
          <p:nvPr/>
        </p:nvSpPr>
        <p:spPr>
          <a:xfrm>
            <a:off x="7024680" y="38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8105760" y="29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1"/>
          <p:cNvSpPr/>
          <p:nvPr/>
        </p:nvSpPr>
        <p:spPr>
          <a:xfrm>
            <a:off x="8537400" y="2743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22"/>
          <p:cNvSpPr/>
          <p:nvPr/>
        </p:nvSpPr>
        <p:spPr>
          <a:xfrm>
            <a:off x="8145360" y="2478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673740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24"/>
          <p:cNvSpPr/>
          <p:nvPr/>
        </p:nvSpPr>
        <p:spPr>
          <a:xfrm>
            <a:off x="6737400" y="3930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7169040" y="3679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26"/>
          <p:cNvSpPr/>
          <p:nvPr/>
        </p:nvSpPr>
        <p:spPr>
          <a:xfrm>
            <a:off x="760104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27"/>
          <p:cNvSpPr/>
          <p:nvPr/>
        </p:nvSpPr>
        <p:spPr>
          <a:xfrm>
            <a:off x="6989760" y="4327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7385040" y="4075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29"/>
          <p:cNvSpPr/>
          <p:nvPr/>
        </p:nvSpPr>
        <p:spPr>
          <a:xfrm>
            <a:off x="7385040" y="4543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30"/>
          <p:cNvSpPr/>
          <p:nvPr/>
        </p:nvSpPr>
        <p:spPr>
          <a:xfrm>
            <a:off x="7816680" y="4290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31"/>
          <p:cNvSpPr/>
          <p:nvPr/>
        </p:nvSpPr>
        <p:spPr>
          <a:xfrm>
            <a:off x="8248680" y="4075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32"/>
          <p:cNvSpPr/>
          <p:nvPr/>
        </p:nvSpPr>
        <p:spPr>
          <a:xfrm>
            <a:off x="7856640" y="38098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33"/>
          <p:cNvSpPr/>
          <p:nvPr/>
        </p:nvSpPr>
        <p:spPr>
          <a:xfrm>
            <a:off x="7205760" y="25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34"/>
          <p:cNvSpPr/>
          <p:nvPr/>
        </p:nvSpPr>
        <p:spPr>
          <a:xfrm>
            <a:off x="7205760" y="3067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35"/>
          <p:cNvSpPr/>
          <p:nvPr/>
        </p:nvSpPr>
        <p:spPr>
          <a:xfrm>
            <a:off x="7637400" y="2814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36"/>
          <p:cNvSpPr/>
          <p:nvPr/>
        </p:nvSpPr>
        <p:spPr>
          <a:xfrm>
            <a:off x="8069400" y="25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37"/>
          <p:cNvSpPr/>
          <p:nvPr/>
        </p:nvSpPr>
        <p:spPr>
          <a:xfrm>
            <a:off x="745812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38"/>
          <p:cNvSpPr/>
          <p:nvPr/>
        </p:nvSpPr>
        <p:spPr>
          <a:xfrm>
            <a:off x="7853400" y="32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39"/>
          <p:cNvSpPr/>
          <p:nvPr/>
        </p:nvSpPr>
        <p:spPr>
          <a:xfrm>
            <a:off x="7853400" y="3679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8285040" y="3427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1"/>
          <p:cNvSpPr/>
          <p:nvPr/>
        </p:nvSpPr>
        <p:spPr>
          <a:xfrm>
            <a:off x="8717040" y="32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2"/>
          <p:cNvSpPr/>
          <p:nvPr/>
        </p:nvSpPr>
        <p:spPr>
          <a:xfrm>
            <a:off x="8325000" y="2946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43"/>
          <p:cNvSpPr/>
          <p:nvPr/>
        </p:nvSpPr>
        <p:spPr>
          <a:xfrm>
            <a:off x="6269040" y="3246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44"/>
          <p:cNvSpPr/>
          <p:nvPr/>
        </p:nvSpPr>
        <p:spPr>
          <a:xfrm>
            <a:off x="6269040" y="3714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45"/>
          <p:cNvSpPr/>
          <p:nvPr/>
        </p:nvSpPr>
        <p:spPr>
          <a:xfrm>
            <a:off x="6700680" y="34639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46"/>
          <p:cNvSpPr/>
          <p:nvPr/>
        </p:nvSpPr>
        <p:spPr>
          <a:xfrm>
            <a:off x="7132680" y="32464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47"/>
          <p:cNvSpPr/>
          <p:nvPr/>
        </p:nvSpPr>
        <p:spPr>
          <a:xfrm>
            <a:off x="6521400" y="4111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6916680" y="38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6916680" y="432756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50"/>
          <p:cNvSpPr/>
          <p:nvPr/>
        </p:nvSpPr>
        <p:spPr>
          <a:xfrm>
            <a:off x="7350120" y="4075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51"/>
          <p:cNvSpPr/>
          <p:nvPr/>
        </p:nvSpPr>
        <p:spPr>
          <a:xfrm>
            <a:off x="7781760" y="3859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52"/>
          <p:cNvSpPr/>
          <p:nvPr/>
        </p:nvSpPr>
        <p:spPr>
          <a:xfrm>
            <a:off x="7388280" y="35942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3"/>
          <p:cNvSpPr/>
          <p:nvPr/>
        </p:nvSpPr>
        <p:spPr>
          <a:xfrm>
            <a:off x="8645400" y="3606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54"/>
          <p:cNvSpPr/>
          <p:nvPr/>
        </p:nvSpPr>
        <p:spPr>
          <a:xfrm>
            <a:off x="8325000" y="3343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55"/>
          <p:cNvSpPr/>
          <p:nvPr/>
        </p:nvSpPr>
        <p:spPr>
          <a:xfrm>
            <a:off x="8501040" y="39672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6"/>
          <p:cNvSpPr/>
          <p:nvPr/>
        </p:nvSpPr>
        <p:spPr>
          <a:xfrm>
            <a:off x="8109000" y="37036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57"/>
          <p:cNvSpPr/>
          <p:nvPr/>
        </p:nvSpPr>
        <p:spPr>
          <a:xfrm>
            <a:off x="8105760" y="4398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8"/>
          <p:cNvSpPr/>
          <p:nvPr/>
        </p:nvSpPr>
        <p:spPr>
          <a:xfrm>
            <a:off x="7713720" y="413532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59"/>
          <p:cNvSpPr/>
          <p:nvPr/>
        </p:nvSpPr>
        <p:spPr>
          <a:xfrm>
            <a:off x="7816680" y="450684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685800" y="685800"/>
            <a:ext cx="914400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toms can combine with each other to form things calle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lec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lecules are just two or more atoms stuck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"/>
          <p:cNvSpPr/>
          <p:nvPr/>
        </p:nvSpPr>
        <p:spPr>
          <a:xfrm>
            <a:off x="1143000" y="4800600"/>
            <a:ext cx="1143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2286000" y="4800600"/>
            <a:ext cx="1143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3886200" y="5029200"/>
            <a:ext cx="1600200" cy="6858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43600" y="5029200"/>
            <a:ext cx="2211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85800" y="685800"/>
            <a:ext cx="914400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made of ato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When two or more atoms are stuck together, this forms a _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673200" y="5842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f you look inside and atom, you can see that atoms are made up of three par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 Prot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 Neu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- Elec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097080" y="4389480"/>
            <a:ext cx="300996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/>
          <p:cNvSpPr/>
          <p:nvPr/>
        </p:nvSpPr>
        <p:spPr>
          <a:xfrm>
            <a:off x="4819680" y="5745240"/>
            <a:ext cx="2514600" cy="228600"/>
          </a:xfrm>
          <a:prstGeom prst="leftArrow">
            <a:avLst>
              <a:gd name="adj1" fmla="val 50000"/>
              <a:gd name="adj2" fmla="val 27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454880" y="5695920"/>
            <a:ext cx="22338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otons 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utro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940280" y="478152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226280" y="4657680"/>
            <a:ext cx="1768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914400" y="685800"/>
            <a:ext cx="6783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all atoms the same??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"/>
          <p:cNvSpPr/>
          <p:nvPr/>
        </p:nvSpPr>
        <p:spPr>
          <a:xfrm>
            <a:off x="685800" y="22860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886200" y="2057400"/>
            <a:ext cx="1600200" cy="1600200"/>
          </a:xfrm>
          <a:prstGeom prst="ellipse">
            <a:avLst/>
          </a:prstGeom>
          <a:solidFill>
            <a:srgbClr val="6b00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514600" y="4114800"/>
            <a:ext cx="457200" cy="457200"/>
          </a:xfrm>
          <a:prstGeom prst="ellipse">
            <a:avLst/>
          </a:prstGeom>
          <a:solidFill>
            <a:srgbClr val="355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407200" y="3886200"/>
            <a:ext cx="2971800" cy="2971800"/>
          </a:xfrm>
          <a:prstGeom prst="ellipse">
            <a:avLst/>
          </a:prstGeom>
          <a:solidFill>
            <a:srgbClr val="ff42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754380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51:51Z</dcterms:created>
  <dc:creator>molly schumer</dc:creator>
  <dc:description/>
  <dc:language>en-US</dc:language>
  <cp:lastModifiedBy>Caroline Roth</cp:lastModifiedBy>
  <dcterms:modified xsi:type="dcterms:W3CDTF">2011-03-21T01:19:59Z</dcterms:modified>
  <cp:revision>7</cp:revision>
  <dc:subject/>
  <dc:title>PowerPoint Presentation</dc:title>
</cp:coreProperties>
</file>